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0.jpeg" ContentType="image/jpeg"/>
  <Override PartName="/ppt/media/image19.jpeg" ContentType="image/jpeg"/>
  <Override PartName="/ppt/media/image11.jpeg" ContentType="image/jpeg"/>
  <Override PartName="/ppt/media/image7.jpeg" ContentType="image/jpeg"/>
  <Override PartName="/ppt/media/image23.wmf" ContentType="image/x-wmf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21.wmf" ContentType="image/x-wmf"/>
  <Override PartName="/ppt/media/image6.jpeg" ContentType="image/jpeg"/>
  <Override PartName="/ppt/media/image9.wmf" ContentType="image/x-wmf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2308-799D-459E-940C-780FDE09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408F-324E-4B2C-9BDA-23B022ED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4B09-E31A-490D-9EE5-DF1A0A5AF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E1A6-82EA-42A4-B6E5-D5036433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A984-A47E-44C8-8596-4F2CCE857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DCC3-8B79-4BC2-BAA7-7CC3E61A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9FF3-79A2-4255-A0C5-C91A5FA2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3632-7A1E-42F0-8B98-71FC75C1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6DDA-0CDA-438A-A658-47FBF1FA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760B-C0F1-4F46-A52D-189A2F44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B617-6070-40BD-A820-2B24D12A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6C27-7CA1-4081-B717-03A75B0E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723E-2EE5-4CD9-9ECD-A534B067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D2D7-0D8C-4A55-A3EA-6B652D58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058A-62CA-4C91-B09D-D16FF809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A0E5-DC07-4146-9F3E-6C02330D8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B9E5-AFAB-4CD6-AD13-743E1795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35E5-426E-4AEB-8C21-C8ABF394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143F-2B78-46EC-A28D-9A770586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4791-EF7B-4F7D-9E59-ADDC3018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3B6A-94EC-441F-A5F4-4D6BFB23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F608-3B28-4DE6-95B9-AC7937FB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896A-47A1-4B58-9042-58D3E07D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AE1A-C7E8-4635-9A62-312100A8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5a86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a867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84E4-BC57-49BB-B22C-0FE2670C75CE}" type="slidenum">
              <a:rPr b="0" lang="en-US" sz="1200" spc="-1" strike="noStrike">
                <a:solidFill>
                  <a:srgbClr val="5a86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5a86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a867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A5B5-D8BD-4381-8A0C-11C92575F9C7}" type="slidenum">
              <a:rPr b="0" lang="en-US" sz="1200" spc="-1" strike="noStrike">
                <a:solidFill>
                  <a:srgbClr val="5a86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mailto:kaking@hoover.k12.al.us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Meet Shelby the Shelf Marker!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Start digging!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It would take a long time to find a book if you have to dig through a mess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08" name="Picture 9" descr="MVC-012S"/>
          <p:cNvPicPr/>
          <p:nvPr/>
        </p:nvPicPr>
        <p:blipFill>
          <a:blip r:embed="rId1"/>
          <a:srcRect l="0" t="0" r="5480" b="25764"/>
          <a:stretch/>
        </p:blipFill>
        <p:spPr>
          <a:xfrm>
            <a:off x="685800" y="2922480"/>
            <a:ext cx="3848040" cy="22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Found it!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But if the books are in order, you can find the book you want FAST!  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You go, girl!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11" name="Picture 10" descr="MVC-013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That’s why librarians work so hard to get books in order, and keep them that way.  They want you to find that special book!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13" name="Picture 10" descr="MVC-014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I’m going to miss recess!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Who likes to dig through a mess?  Who has time?”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16" name="Picture 9" descr="MVC-012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That’s why I’m so important!”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18" name="Picture 9" descr="MVC-007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I mark a book’s place on the shelf while you look at it.  But let me start from the beginning.”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20" name="Picture 9" descr="MVC-015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It takes time to find a good book to read.”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22" name="Picture 11" descr="MVC-016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Me first!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When you find a book that looks interesting, put me on the shelf next to it.”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25" name="Picture 10" descr="MVC-018S"/>
          <p:cNvPicPr/>
          <p:nvPr/>
        </p:nvPicPr>
        <p:blipFill>
          <a:blip r:embed="rId1"/>
          <a:stretch/>
        </p:blipFill>
        <p:spPr>
          <a:xfrm>
            <a:off x="838080" y="283860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Don’t let me fall!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Don’t pull out the book until I’m safely on the shelf.”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28" name="Picture 16" descr="MVC-017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Help!  I’m falling!  OUCH!”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30" name="Picture 11" descr="MVC-020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Welcome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Hi!  I’m Shelby the Shelf Marker.  Welcome to the library media center!”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87" name="Picture 15" descr="MVC-001S"/>
          <p:cNvPicPr/>
          <p:nvPr/>
        </p:nvPicPr>
        <p:blipFill>
          <a:blip r:embed="rId1"/>
          <a:stretch/>
        </p:blipFill>
        <p:spPr>
          <a:xfrm>
            <a:off x="609480" y="262404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6120" y="2057400"/>
            <a:ext cx="3848040" cy="40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Once you know I’m in place, then you can pull out the book.”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32" name="Picture 12" descr="MVC-006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This spot is saved!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While you look at a book, I’m saving your place on the shelf.” 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35" name="Picture 9" descr="MVC-019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Home, sweet home!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5640" y="2636640"/>
            <a:ext cx="691200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If you decide you don’t want the book, I remind you where it belongs.  I’m sitting in the book’s special spot.  I’m protecting its home until the book is returned.”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38" name="Picture 16" descr="MCj04063780000[1]"/>
          <p:cNvPicPr/>
          <p:nvPr/>
        </p:nvPicPr>
        <p:blipFill>
          <a:blip r:embed="rId1"/>
          <a:stretch/>
        </p:blipFill>
        <p:spPr>
          <a:xfrm>
            <a:off x="6012000" y="1197000"/>
            <a:ext cx="2087280" cy="20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Book first, me last!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Once you decide you don’t want the book, put it back home </a:t>
            </a:r>
            <a:r>
              <a:rPr b="1" lang="en-US" sz="2400" spc="-1" strike="noStrike">
                <a:solidFill>
                  <a:srgbClr val="5a867b"/>
                </a:solidFill>
                <a:latin typeface="Tahoma"/>
              </a:rPr>
              <a:t>BEFORE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 you take me off the shelf.  This time, I’M LAST!”  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41" name="Picture 9" descr="MVC-021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MCj03556410000[1]"/>
          <p:cNvPicPr/>
          <p:nvPr/>
        </p:nvPicPr>
        <p:blipFill>
          <a:blip r:embed="rId1"/>
          <a:stretch/>
        </p:blipFill>
        <p:spPr>
          <a:xfrm>
            <a:off x="3492360" y="981000"/>
            <a:ext cx="2448000" cy="22654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85"/>
          <p:cNvSpPr/>
          <p:nvPr/>
        </p:nvSpPr>
        <p:spPr>
          <a:xfrm>
            <a:off x="900000" y="2997360"/>
            <a:ext cx="74152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5a867b"/>
                </a:solidFill>
                <a:latin typeface="Tahoma"/>
              </a:rPr>
              <a:t>NEVER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 put a book back on the shelf without me marking its home.  Only </a:t>
            </a:r>
            <a:r>
              <a:rPr b="1" lang="en-US" sz="2400" spc="-1" strike="noStrike">
                <a:solidFill>
                  <a:srgbClr val="5a867b"/>
                </a:solidFill>
                <a:latin typeface="Tahoma"/>
              </a:rPr>
              <a:t>librarians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 can do that.  Are you a librarian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Don’t leave me behind!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6120" y="2057400"/>
            <a:ext cx="3848040" cy="40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5a867b"/>
                </a:solidFill>
                <a:latin typeface="Tahoma"/>
              </a:rPr>
              <a:t>If you decide to check out the book, take me with you.  I don’t need to stay on the shelf if you are going to check it out.  Take me with you to the computer and check out.”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46" name="Picture 9" descr="MVC-022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Keep me busy!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Return me to my special spot in the library so I can help another friend.”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49" name="Picture 12" descr="MVC-867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6120" y="2057400"/>
            <a:ext cx="3848040" cy="40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Remember!  Books like to go home, just like you do.”  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51" name="Picture 9" descr="MVC-004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Is there room on the shelf for this book?  Sure, but this is not its home.  I’m not saving its place, so don’t put your book here.” 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53" name="Picture 13" descr="MVC-005S"/>
          <p:cNvPicPr/>
          <p:nvPr/>
        </p:nvPicPr>
        <p:blipFill>
          <a:blip r:embed="rId1"/>
          <a:srcRect l="10004" t="0" r="0" b="10000"/>
          <a:stretch/>
        </p:blipFill>
        <p:spPr>
          <a:xfrm>
            <a:off x="762120" y="2671920"/>
            <a:ext cx="3924360" cy="29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Save Your Valuable Brain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6120" y="2057400"/>
            <a:ext cx="3848040" cy="40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Let me do my job!  Let me remind you where the book belongs so you don’t have to remember.  You need to save your brain for more important information!”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56" name="Picture 10" descr="MVC-006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Neat!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There are a lot of books in our library.  Doesn’t it look neat?”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90" name="Picture 1034" descr="MVC-002S"/>
          <p:cNvPicPr/>
          <p:nvPr/>
        </p:nvPicPr>
        <p:blipFill>
          <a:blip r:embed="rId1"/>
          <a:stretch/>
        </p:blipFill>
        <p:spPr>
          <a:xfrm>
            <a:off x="723960" y="2657520"/>
            <a:ext cx="377172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Let’s pretend…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What if your teacher puts you on a bus this afternoon and tells the driver to drop you off at a stranger’s house?  Do you want to go home to a stranger’s house?” 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59" name="Picture 9" descr="MPj03997650000[1]"/>
          <p:cNvPicPr/>
          <p:nvPr/>
        </p:nvPicPr>
        <p:blipFill>
          <a:blip r:embed="rId1"/>
          <a:stretch/>
        </p:blipFill>
        <p:spPr>
          <a:xfrm>
            <a:off x="685800" y="2774880"/>
            <a:ext cx="3848040" cy="25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NO!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If you’re dropped off at a stranger’s house and not at home, your family will worry and think you’re lost.”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62" name="Picture 9" descr="MPj04002940000[1]"/>
          <p:cNvPicPr/>
          <p:nvPr/>
        </p:nvPicPr>
        <p:blipFill>
          <a:blip r:embed="rId1"/>
          <a:stretch/>
        </p:blipFill>
        <p:spPr>
          <a:xfrm>
            <a:off x="685800" y="2774880"/>
            <a:ext cx="3848040" cy="25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If a book is not returned to its home, we think it’s lost.”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64" name="Picture 8" descr="MVC-007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0" descr="MPj01788440000[1]"/>
          <p:cNvPicPr/>
          <p:nvPr/>
        </p:nvPicPr>
        <p:blipFill>
          <a:blip r:embed="rId1"/>
          <a:stretch/>
        </p:blipFill>
        <p:spPr>
          <a:xfrm>
            <a:off x="2484360" y="2421000"/>
            <a:ext cx="4324320" cy="28684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4360" y="764640"/>
            <a:ext cx="7704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Boo-hoo!  Where’s my book?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Ah!  Home Sweet Home!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Just like you, every book has a home.  Books belong at home until someone checks it out.”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69" name="Picture 10" descr="MVC-008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  <p:sp>
        <p:nvSpPr>
          <p:cNvPr id="170" name="Line 11"/>
          <p:cNvSpPr/>
          <p:nvPr/>
        </p:nvSpPr>
        <p:spPr>
          <a:xfrm flipH="1">
            <a:off x="2286000" y="2286000"/>
            <a:ext cx="83808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6120" y="907560"/>
            <a:ext cx="3848040" cy="521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Speak up for books!  Help us keep them in order and at home until they are checked out.  Please don’t let the poor little books get lost from their homes!”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72" name="Picture 9" descr="MVC-009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a867b"/>
                </a:solidFill>
                <a:latin typeface="Tahoma"/>
              </a:rPr>
              <a:t>Rocky Ridge Elementary School</a:t>
            </a:r>
            <a:endParaRPr b="0" lang="en-US" sz="1000" spc="-1" strike="noStrike">
              <a:solidFill>
                <a:srgbClr val="5a867b"/>
              </a:solidFill>
              <a:latin typeface="Tahoma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a867b"/>
                </a:solidFill>
                <a:latin typeface="Tahoma"/>
              </a:rPr>
              <a:t>Hoover, Alabama</a:t>
            </a:r>
            <a:endParaRPr b="0" lang="en-US" sz="1000" spc="-1" strike="noStrike">
              <a:solidFill>
                <a:srgbClr val="5a867b"/>
              </a:solidFill>
              <a:latin typeface="Tahoma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a867b"/>
                </a:solidFill>
                <a:latin typeface="Tahoma"/>
              </a:rPr>
              <a:t>Karen King, Library Media Specialist</a:t>
            </a:r>
            <a:endParaRPr b="0" lang="en-US" sz="1000" spc="-1" strike="noStrike">
              <a:solidFill>
                <a:srgbClr val="5a867b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a867b"/>
                </a:solidFill>
                <a:latin typeface="Tahoma"/>
              </a:rPr>
              <a:t>Special thanks to Microsoft for their excellent selection of PowerPoint designs.  Librarians are welcome to link to this page.  Your comments and suggestions are welcome.  My e-mail address is:  </a:t>
            </a:r>
            <a:r>
              <a:rPr b="0" lang="en-US" sz="1000" spc="-1" strike="noStrike" u="sng">
                <a:solidFill>
                  <a:srgbClr val="d1b4c8"/>
                </a:solidFill>
                <a:uFillTx/>
                <a:latin typeface="Tahoma"/>
                <a:hlinkClick r:id="rId1"/>
              </a:rPr>
              <a:t>kaking@hoover.k12.al.us</a:t>
            </a:r>
            <a:r>
              <a:rPr b="0" lang="en-US" sz="1000" spc="-1" strike="noStrike">
                <a:solidFill>
                  <a:srgbClr val="5a867b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5a867b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371600" y="22860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867b"/>
                </a:solidFill>
                <a:latin typeface="Times New Roman"/>
              </a:rPr>
              <a:t>Please press your browser’s </a:t>
            </a:r>
            <a:r>
              <a:rPr b="1" lang="en-US" sz="3200" spc="-1" strike="noStrike">
                <a:solidFill>
                  <a:srgbClr val="5a867b"/>
                </a:solidFill>
                <a:latin typeface="Times New Roman"/>
              </a:rPr>
              <a:t>BACK</a:t>
            </a:r>
            <a:r>
              <a:rPr b="0" lang="en-US" sz="3200" spc="-1" strike="noStrike">
                <a:solidFill>
                  <a:srgbClr val="5a867b"/>
                </a:solidFill>
                <a:latin typeface="Times New Roman"/>
              </a:rPr>
              <a:t> button to return to the main web p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Wow!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But think what would happen if the books were </a:t>
            </a:r>
            <a:r>
              <a:rPr b="1" lang="en-US" sz="2400" spc="-1" strike="noStrike">
                <a:solidFill>
                  <a:srgbClr val="5a867b"/>
                </a:solidFill>
                <a:latin typeface="Tahoma"/>
              </a:rPr>
              <a:t>THROWN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 into a pile?”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93" name="Picture 10" descr="MVC-004S"/>
          <p:cNvPicPr/>
          <p:nvPr/>
        </p:nvPicPr>
        <p:blipFill>
          <a:blip r:embed="rId1"/>
          <a:stretch/>
        </p:blipFill>
        <p:spPr>
          <a:xfrm>
            <a:off x="609480" y="2610000"/>
            <a:ext cx="4038840" cy="30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Ugh!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Or, what if the books were </a:t>
            </a:r>
            <a:r>
              <a:rPr b="1" lang="en-US" sz="2400" spc="-1" strike="noStrike">
                <a:solidFill>
                  <a:srgbClr val="5a867b"/>
                </a:solidFill>
                <a:latin typeface="Tahoma"/>
              </a:rPr>
              <a:t>STUFFED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 into the bookcase?”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96" name="Picture 11" descr="MVC-005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Help!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How would you find anything?”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99" name="Picture 10" descr="MVC-006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That’s where I comes in.  It’s my job to help keep the books in order.  (I’m VERY important, but I try not to act like it!)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01" name="Picture 10" descr="MVC-007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427640" y="2133720"/>
            <a:ext cx="424800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You may be asking, “Why do the librarians keep the library so NEAT?  Why don’t they just put the books anywhere?”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03" name="Picture 12" descr="MCDD00864_0000[1]"/>
          <p:cNvPicPr/>
          <p:nvPr/>
        </p:nvPicPr>
        <p:blipFill>
          <a:blip r:embed="rId1"/>
          <a:stretch/>
        </p:blipFill>
        <p:spPr>
          <a:xfrm>
            <a:off x="611280" y="2421000"/>
            <a:ext cx="355752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Librarians have to keep the books in a special order so you can find the books you want when you want them.  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05" name="Picture 11" descr="MVC-009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15:34:22Z</dcterms:created>
  <dc:creator>Valued Gateway Client</dc:creator>
  <dc:description/>
  <dc:language>en-US</dc:language>
  <cp:lastModifiedBy>Gerber's</cp:lastModifiedBy>
  <dcterms:modified xsi:type="dcterms:W3CDTF">2011-08-12T02:15:33Z</dcterms:modified>
  <cp:revision>29</cp:revision>
  <dc:subject/>
  <dc:title>Using Shelf Markers</dc:title>
</cp:coreProperties>
</file>